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BD3-94C6-4988-8606-DAD1D348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1BB-095F-4488-8B24-99E687C7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E3A-942A-4D61-ADA0-A41C25AA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BDE-A97E-459E-A669-6FB63D55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82D4-6036-42CE-993B-9659698B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6639-732F-4237-BAE3-7235F49A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A8EF-E079-4155-9D35-409A0BE5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4CF2-AFD0-45E4-8337-E9525FB0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F52-801D-4F64-96D0-04B9E4EE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5CD-9264-4723-93D8-148FD0C9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7346-C4EC-42F4-AC17-F419A3E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F95-2D54-479A-ACAF-8BE84462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B661-0F2C-4595-8583-B89EB73D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3965-D1CB-4430-9272-7A5BDB2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572A-6294-4910-ADF8-CB9F6E31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BD07-F719-4DE4-966A-6D38B1E2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95D2-C05D-44C5-8D9E-A02F6C27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2D6-581C-4B96-85B6-790597BE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F1B-E765-4FA8-ADD1-DD4F8A53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86E-1690-4A9F-890B-5567B796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49F-695E-4B73-9A9C-8ABF2C13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BCB-FA38-449F-9FF3-EE31A10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00C-A98F-4EE2-8BBD-7890EEF9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8C5-9A16-454E-9150-5E46A11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3CA0-2E43-48F5-BAE9-9E08D51FFA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ED57-AC9C-4F86-B987-091D993153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ticle Theor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is made up of particles, this concept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le theory of m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main ideas of this theory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is composed of tiny particles with space betwee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ubstances (pure substances and mixtures) are made of different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 are in constant random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 move faster as its temperature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82760">
              <a:lnSpc>
                <a:spcPct val="10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 attra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mage008"/>
          <p:cNvPicPr/>
          <p:nvPr/>
        </p:nvPicPr>
        <p:blipFill>
          <a:blip r:embed="rId1"/>
          <a:srcRect l="0" t="4393" r="0" b="0"/>
          <a:stretch/>
        </p:blipFill>
        <p:spPr>
          <a:xfrm>
            <a:off x="4267080" y="609480"/>
            <a:ext cx="4648320" cy="3322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85800" y="3581280"/>
            <a:ext cx="8077320" cy="266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articles are close together, but still vibr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heated, the particles gain energy and begin moving, form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ating continues the particles fly around, no longer held close together creat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3:42:54Z</dcterms:created>
  <dc:creator>C37357</dc:creator>
  <dc:description/>
  <dc:language>en-US</dc:language>
  <cp:lastModifiedBy>Katie</cp:lastModifiedBy>
  <dcterms:modified xsi:type="dcterms:W3CDTF">2014-10-01T19:21:10Z</dcterms:modified>
  <cp:revision>3</cp:revision>
  <dc:subject/>
  <dc:title>Particle Theory</dc:title>
</cp:coreProperties>
</file>